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907588" cy="6858000"/>
  <p:notesSz cx="6858000" cy="9698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69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3BE67-ED15-4D85-ACB6-526CC8B20EB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6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E8D8A-7A68-4DD7-9493-37F4DA67587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6F4E0-910B-422B-AE5A-88D6D215321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E9D78-6F7A-49F9-9D30-E6D77AB857C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F36DC-D338-4614-BC3F-3CAB4FAFC54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E7C9-9724-4C6C-A47E-43B0D6C63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03C6-93E7-40E4-B747-406D24B8A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E8B0-CF05-4971-AE9B-893CDBFB0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1293-DB2C-4154-A56A-25D651D9F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524B-B528-4B27-BF84-611424195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0CB1-311F-4FB3-B2D3-AE38044CB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AC7A-ED6B-4AA4-A615-2818691DB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1676-0AEE-4EB4-A169-B688DA8D5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A171-3AC2-4034-9964-7F7A3498E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B7C9-85B3-418E-907B-E8D16726B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A802-4396-41E3-8C80-A2F4F1991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0CEA-BE71-47CE-9C7C-D7F3C19F8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38F74-1E31-4FFD-A4AD-683503E4CD46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9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50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52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169920" y="996840"/>
            <a:ext cx="4114800" cy="55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2074*1110*1945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숙사 내실에서 편안한 휴식과 수면을 취할 수 있는 최적의 규격으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구조는 견고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H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자 구조의 철제프레임으로 내구성이 좋은 형태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하부에 높이조절 레벨러 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철재사다리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바닥프레임에 연결되어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침대하단에 서랍을 넣을시 간섭이 없어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주머니형 난간덮개로 프레임을 가리고 간단한 소품을 보관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매트리스 바닥프레임을 보강하여 더욱 견고해짐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20*20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각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 보강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머리판에 실크스크린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8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1.2t ABS EDGE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바닥판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5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P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프레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.4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 파이프 및 스틸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 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글라이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알루미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캡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ABS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플라스틱 사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3"/>
          <a:stretch/>
        </p:blipFill>
        <p:spPr>
          <a:xfrm>
            <a:off x="5345280" y="1774800"/>
            <a:ext cx="3886200" cy="3848040"/>
          </a:xfrm>
          <a:prstGeom prst="rect">
            <a:avLst/>
          </a:prstGeom>
          <a:ln w="0">
            <a:noFill/>
          </a:ln>
        </p:spPr>
      </p:pic>
      <p:pic>
        <p:nvPicPr>
          <p:cNvPr id="56" name="그림 10" descr="color.jpg"/>
          <p:cNvPicPr/>
          <p:nvPr/>
        </p:nvPicPr>
        <p:blipFill>
          <a:blip r:embed="rId4"/>
          <a:stretch/>
        </p:blipFill>
        <p:spPr>
          <a:xfrm>
            <a:off x="284040" y="561960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DBE3022-2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직사각형 32"/>
          <p:cNvSpPr/>
          <p:nvPr/>
        </p:nvSpPr>
        <p:spPr>
          <a:xfrm>
            <a:off x="4589640" y="422280"/>
            <a:ext cx="18072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169920" y="996840"/>
            <a:ext cx="4533840" cy="39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435*270*1308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숙사</a:t>
            </a:r>
            <a:r>
              <a:rPr b="1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용 철재 사다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/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바닥프레임에 연결된 철재 사다리 사용으로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침대하단에 서랍을 넣을 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간섭이 없어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BODY : 15x30x1.4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파이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5x35x1.4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파이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3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스틸절곡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수  상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65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67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9" name="Picture 12" descr="\\s098\2009자료관리\02.정제품 사진\교육용\기숙사가구\3000G\단품\DIL3004.jpg"/>
          <p:cNvPicPr/>
          <p:nvPr/>
        </p:nvPicPr>
        <p:blipFill>
          <a:blip r:embed="rId3"/>
          <a:srcRect l="13764" t="1938" r="17245" b="139"/>
          <a:stretch/>
        </p:blipFill>
        <p:spPr>
          <a:xfrm>
            <a:off x="6135840" y="1160640"/>
            <a:ext cx="1915920" cy="4790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"/>
          <p:cNvPicPr/>
          <p:nvPr/>
        </p:nvPicPr>
        <p:blipFill>
          <a:blip r:embed="rId4"/>
          <a:stretch/>
        </p:blipFill>
        <p:spPr>
          <a:xfrm>
            <a:off x="282600" y="4410000"/>
            <a:ext cx="558720" cy="55872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sp>
        <p:nvSpPr>
          <p:cNvPr id="71" name="직선 연결선 35"/>
          <p:cNvSpPr/>
          <p:nvPr/>
        </p:nvSpPr>
        <p:spPr>
          <a:xfrm>
            <a:off x="169920" y="48096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직사각형 36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ADDER &lt;DIL3004-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철재 사다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직선 연결선 38"/>
          <p:cNvSpPr/>
          <p:nvPr/>
        </p:nvSpPr>
        <p:spPr>
          <a:xfrm>
            <a:off x="90360" y="831960"/>
            <a:ext cx="418788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직사각형 4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Text Box 51"/>
          <p:cNvSpPr/>
          <p:nvPr/>
        </p:nvSpPr>
        <p:spPr>
          <a:xfrm>
            <a:off x="814320" y="4710240"/>
            <a:ext cx="20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한국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AID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주최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PIN UP DESIGN AWARDS 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수상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7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78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80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1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7" name="Picture 3" descr="E:\20140916_133412.jpg"/>
          <p:cNvPicPr/>
          <p:nvPr/>
        </p:nvPicPr>
        <p:blipFill>
          <a:blip r:embed="rId3"/>
          <a:srcRect l="17557" t="33157" r="20051" b="19800"/>
          <a:stretch/>
        </p:blipFill>
        <p:spPr>
          <a:xfrm>
            <a:off x="5548320" y="598320"/>
            <a:ext cx="2881440" cy="1571760"/>
          </a:xfrm>
          <a:prstGeom prst="rect">
            <a:avLst/>
          </a:prstGeom>
          <a:ln w="0">
            <a:noFill/>
          </a:ln>
        </p:spPr>
      </p:pic>
      <p:pic>
        <p:nvPicPr>
          <p:cNvPr id="88" name="그림 10" descr=""/>
          <p:cNvPicPr/>
          <p:nvPr/>
        </p:nvPicPr>
        <p:blipFill>
          <a:blip r:embed="rId4"/>
          <a:srcRect l="4714" t="2648" r="5011" b="2976"/>
          <a:stretch/>
        </p:blipFill>
        <p:spPr>
          <a:xfrm>
            <a:off x="4808520" y="2503440"/>
            <a:ext cx="4897440" cy="3830760"/>
          </a:xfrm>
          <a:prstGeom prst="rect">
            <a:avLst/>
          </a:prstGeom>
          <a:ln w="0">
            <a:noFill/>
          </a:ln>
        </p:spPr>
      </p:pic>
      <p:sp>
        <p:nvSpPr>
          <p:cNvPr id="89" name="TextBox 9"/>
          <p:cNvSpPr/>
          <p:nvPr/>
        </p:nvSpPr>
        <p:spPr>
          <a:xfrm>
            <a:off x="219240" y="900000"/>
            <a:ext cx="4187520" cy="55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20(W) X 2059(L) X 928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0(W) X  2000(L) X 18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다리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mm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 상단 모서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전면 모서리의 라운딩 처리와 내추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컬러 적용으로 안정감 있는 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의 플러쉬패널 가공으로 제품의 경량화 구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와 매트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간 유격을 최소화하여 기숙사 내실에서의 공간활용성을 고려한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은 오염과 훼손에 강한 브라운 컬러 패브릭으로 마감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추가침구가 필요 없는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후면 스마트포일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함침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접착 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E0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등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MDF, 39T Flush Panel(4.5T X 30T X 4.5T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EDGE : 0.6T PVC EDGE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브라운 패브릭 원단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네오텍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3.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연선매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이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3.50mm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모래시계 형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목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미송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분함유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3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코너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0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안전성 확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1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92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3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94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메트리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0" name="그림 1" descr=""/>
          <p:cNvPicPr/>
          <p:nvPr/>
        </p:nvPicPr>
        <p:blipFill>
          <a:blip r:embed="rId3"/>
          <a:srcRect l="2403" t="15147" r="1545" b="19120"/>
          <a:stretch/>
        </p:blipFill>
        <p:spPr>
          <a:xfrm>
            <a:off x="4757760" y="2538360"/>
            <a:ext cx="4795920" cy="2562120"/>
          </a:xfrm>
          <a:prstGeom prst="rect">
            <a:avLst/>
          </a:prstGeom>
          <a:ln w="0">
            <a:noFill/>
          </a:ln>
        </p:spPr>
      </p:pic>
      <p:sp>
        <p:nvSpPr>
          <p:cNvPr id="101" name="직사각형 13"/>
          <p:cNvSpPr/>
          <p:nvPr/>
        </p:nvSpPr>
        <p:spPr>
          <a:xfrm>
            <a:off x="219240" y="860400"/>
            <a:ext cx="3725640" cy="45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1000(W) X 2000(L) X 22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밝은 원단에 비해 오염이 덜한 연그레이 원단에 은은한 무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봉합 테이프 컬러는 진한 그레이 컬러로 투톤 디자인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방염 자가드 원단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0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커버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경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314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㎠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±3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영구합출변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 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9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mm *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파워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드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고탄소 포스코산 최고급원료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장강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0~1720N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㎟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탄소합유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64~0.71%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280~320℃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의 고주파 열처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높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mm(±5),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.5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리컬 코일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.40mm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테두리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.0m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조립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9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압연강판 클립고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보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장자리 탄력강화를 위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~8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 투입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옆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폰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기통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4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습기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녹방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법 및 기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체에 무해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무취한 핫멜트 접착공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하면 동일사양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양면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중 비닐포장 완성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직사각형 14"/>
          <p:cNvSpPr/>
          <p:nvPr/>
        </p:nvSpPr>
        <p:spPr>
          <a:xfrm>
            <a:off x="219240" y="5584680"/>
            <a:ext cx="41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기 자재 및 하드웨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K.S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품질기준 또는 동일한 품질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기준에 합격한 제품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한컴 윤고딕 240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Picture 14" descr="D:\2012\아주대\기숙사\시몬스침대\맥시패딕.jpg"/>
          <p:cNvPicPr/>
          <p:nvPr/>
        </p:nvPicPr>
        <p:blipFill>
          <a:blip r:embed="rId4"/>
          <a:stretch/>
        </p:blipFill>
        <p:spPr>
          <a:xfrm>
            <a:off x="7985160" y="396720"/>
            <a:ext cx="192708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dcterms:modified xsi:type="dcterms:W3CDTF">2016-12-14T06:03:14Z</dcterms:modified>
  <cp:revision>250</cp:revision>
  <dc:subject/>
  <dc:title>슬라이드 1</dc:title>
</cp:coreProperties>
</file>